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xplode.wav" ContentType="audio/x-wav"/>
  <Override PartName="/ppt/media/wind.wav" ContentType="audio/x-wav"/>
  <Override PartName="/ppt/media/camera.wav" ContentType="audio/x-wav"/>
  <Override PartName="/ppt/media/image2.jpeg" ContentType="image/jpeg"/>
  <Override PartName="/ppt/media/cashreg.wav" ContentType="audio/x-wav"/>
  <Override PartName="/ppt/media/applause.wav" ContentType="audio/x-wav"/>
  <Override PartName="/ppt/media/pu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A921-0890-4A75-B979-E97C0A235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D382-D0DC-45BE-8F1C-9F31119C6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BFDD-A2C2-45D1-86D9-E179B5E59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46D1-F9D7-4E41-A145-C44BF5FCF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CAAF-F01E-4349-B0AE-A6DCAE258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1092-B01B-4A24-8BC6-EA09B7C1D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B478-7CA8-4213-96E3-558FE75B3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0023-8C23-4F51-82AA-A315E7480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6D59-EB79-480D-952C-A7B6FE984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462D-56AC-4E5D-9211-3A28919ED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F213-58B7-4736-9883-7273AC61F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8458-34B0-4392-AB75-BC3D5ACF2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0A1-2049-461B-A957-3269AEF3D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eter Davi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  <p:sndAc>
      <p:stSnd>
        <p:snd r:embed="rId1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What Is P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Equal to the number of times a circle’s diameter will fit around 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Approximately 3.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i goes on for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Decimals have no pattern and don’t 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i is an irration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380880" y="533520"/>
            <a:ext cx="8207640" cy="1143000"/>
            <a:chOff x="380880" y="533520"/>
            <a:chExt cx="8207640" cy="1143000"/>
          </a:xfrm>
        </p:grpSpPr>
        <p:pic>
          <p:nvPicPr>
            <p:cNvPr id="47" name="Picture 4" descr="pi1"/>
            <p:cNvPicPr/>
            <p:nvPr/>
          </p:nvPicPr>
          <p:blipFill>
            <a:blip r:embed="rId1"/>
            <a:stretch/>
          </p:blipFill>
          <p:spPr>
            <a:xfrm>
              <a:off x="7467480" y="533520"/>
              <a:ext cx="1121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pi1"/>
            <p:cNvPicPr/>
            <p:nvPr/>
          </p:nvPicPr>
          <p:blipFill>
            <a:blip r:embed="rId2"/>
            <a:stretch/>
          </p:blipFill>
          <p:spPr>
            <a:xfrm>
              <a:off x="380880" y="533520"/>
              <a:ext cx="11210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l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– Early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1650 BC – Rhind Papyrus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Value of 3.16 probably found by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ible – 1 Kings 7:23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Value of 3 (not very accur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Archimedes (287 – 212 BC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lculated between </a:t>
            </a:r>
            <a:r>
              <a:rPr b="0" lang="af-ZA" sz="3200" spc="-1" strike="noStrike" baseline="30000">
                <a:solidFill>
                  <a:srgbClr val="000000"/>
                </a:solidFill>
                <a:latin typeface="Times New Roman"/>
              </a:rPr>
              <a:t>223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3200" spc="-1" strike="noStrike" baseline="-25000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af-ZA" sz="32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1" name="explod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– AD (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Tsu Ch’ung Chi (430 – 501 AD)</a:t>
            </a:r>
            <a:br>
              <a:rPr sz="2800"/>
            </a:br>
            <a:r>
              <a:rPr b="0" lang="af-ZA" sz="2800" spc="-1" strike="noStrike" baseline="30000">
                <a:solidFill>
                  <a:srgbClr val="000000"/>
                </a:solidFill>
                <a:latin typeface="Times New Roman"/>
              </a:rPr>
              <a:t>355</a:t>
            </a: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af-ZA" sz="2800" spc="-1" strike="noStrike" baseline="-25000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Brahmagupta (640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Value of pi = 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 =  3,16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Al-Kashi (1430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14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Newton (1665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16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Ferguson (1946)</a:t>
            </a:r>
            <a:br>
              <a:rPr sz="2800"/>
            </a:br>
            <a:r>
              <a:rPr b="0" lang="af-ZA" sz="2800" spc="-1" strike="noStrike">
                <a:solidFill>
                  <a:srgbClr val="000000"/>
                </a:solidFill>
                <a:latin typeface="Times New Roman"/>
              </a:rPr>
              <a:t>Calculated pi to 620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2971800" y="380988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pull dir="d"/>
    <p:sndAc>
      <p:stSnd>
        <p:snd r:embed="rId1" name="explode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History of Pi - Compu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Ferguson (1947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lculated to 710 places using a desk cal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Kanada &amp; Takashi (Sept 1999)</a:t>
            </a:r>
            <a:br>
              <a:rPr sz="3200"/>
            </a:b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Used a computer to calculate pi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6,158,430,000 </a:t>
            </a: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decimal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wind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Pi and Different Cul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Earliest discoveries (BCE) and investigations made by Egyptians and Greek mathematici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etween 230 AD and 1430 AD further investigation carried out by Chinese, Indian and Arabic mathematicians  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More recent discoveries made by Western and Japanese mathema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1" name="camera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Why is Pi so Fascina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Provides an intellectual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Because i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Lead to important discoveries in modern math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Can be calculated using sequences of ration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3200" spc="-1" strike="noStrike">
                <a:solidFill>
                  <a:srgbClr val="000000"/>
                </a:solidFill>
                <a:latin typeface="Times New Roman"/>
              </a:rPr>
              <a:t>Lead to developments in computer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  <p:sndAc>
      <p:stSnd>
        <p:snd r:embed="rId1" name="applause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68580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© http://oz.irtc.org/ftp/pub/stills/1997-06-30/cowpi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Johnson, Y., Davidson, P., Jaffer, S., Galant, S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Maths for all Grade 8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. Manzini. Mcmillan Boles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Witcombe, C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Earth Mysteries: Notes on Pi.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 Retrieved 31 March 2003 from </a:t>
            </a:r>
            <a:r>
              <a:rPr b="0" lang="af-ZA" sz="2000" spc="-1" strike="noStrike">
                <a:solidFill>
                  <a:srgbClr val="ff0000"/>
                </a:solidFill>
                <a:latin typeface="Times New Roman"/>
              </a:rPr>
              <a:t>http://witcombe.sbc.edu/earthmysteries/EMP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O’Connor, J.J. &amp; Robertson, E.F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A history of pi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. Retrieved 31 March 2003 from http://www-groups.dcs.st-and.ac.uk/~history/HistTopics/Pi_through_the_ag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O’Connor, J.J. &amp; Robertson, E.F. </a:t>
            </a:r>
            <a:r>
              <a:rPr b="0" i="1" lang="af-ZA" sz="2000" spc="-1" strike="noStrike">
                <a:solidFill>
                  <a:srgbClr val="000000"/>
                </a:solidFill>
                <a:latin typeface="Times New Roman"/>
              </a:rPr>
              <a:t>A chronology of pi. </a:t>
            </a:r>
            <a:r>
              <a:rPr b="0" lang="af-ZA" sz="2000" spc="-1" strike="noStrike">
                <a:solidFill>
                  <a:srgbClr val="000000"/>
                </a:solidFill>
                <a:latin typeface="Times New Roman"/>
              </a:rPr>
              <a:t>Retrieved 31 March 2003 from http://www-groups.dcs.st-and.ac.uk/~history/HistTopics/Pi_chronolog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push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7:31:29Z</dcterms:created>
  <dc:creator>.</dc:creator>
  <dc:description/>
  <dc:language>en-US</dc:language>
  <cp:lastModifiedBy>Ely Family</cp:lastModifiedBy>
  <dcterms:modified xsi:type="dcterms:W3CDTF">2008-12-08T00:53:00Z</dcterms:modified>
  <cp:revision>15</cp:revision>
  <dc:subject/>
  <dc:title>History of Pi</dc:title>
</cp:coreProperties>
</file>